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22320"/>
            <a:ext cx="1036800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10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migrants Arriving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38" name="Picture 4" descr="Capture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-33480" y="474840"/>
            <a:ext cx="10401480" cy="71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5-10-01T12:16:22Z</dcterms:modified>
  <cp:revision>2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